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C43-0C27-41D3-9EDC-429C3DD4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F03-B11E-4AC8-BE0D-76C48DE8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B0D-1539-432C-9AAC-82A0A50D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49D-28E2-4001-9B33-57FB5B10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3E1F-30E8-43F6-AC2C-83E925DC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B3AB-0D22-4D14-9BA5-2DA20D9B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433A-1AA5-4797-8E02-37918196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3A0-5ABE-4D06-BEE2-5BC33597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D28C-807D-4525-A73C-4856FF53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18DA-5A7C-47E3-B9BD-7149A274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6519-9125-445C-A51B-7696F9DC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D0E-1DE4-410B-AD97-99EF90A0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F861-478C-4740-942A-8D86C607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207D-21BE-489E-AA2D-BB48DD0B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588A-27B8-4B8A-A5F8-46EC4DCE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EB55-20BD-46D7-B884-0866A206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B174-E8CA-4323-996F-AE5400B8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C3A-3333-405D-B744-9DBCF5E3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887-3420-4523-8E55-CDE63950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78C-3B24-4B7A-AD1F-04EC6B26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472-491C-43F1-95F5-FF68D987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0C5-AA90-436C-B3F7-9C8D54D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A94-E8BE-443A-80F3-2DB478EB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11F-CE45-4A3F-B142-E291898E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5CDB-180F-49D7-8025-0B48659881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89F3-CD28-4AA7-B170-F2FA1A5FD8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s.wikipedia.org/wiki/95_tez&#237;" TargetMode="External"/><Relationship Id="rId3" Type="http://schemas.openxmlformats.org/officeDocument/2006/relationships/hyperlink" Target="http://cs.wikipedia.org/wiki/95_tez&#237;" TargetMode="External"/><Relationship Id="rId4" Type="http://schemas.openxmlformats.org/officeDocument/2006/relationships/hyperlink" Target="http://cs.wikipedia.org/wiki/95_tez&#237;" TargetMode="External"/><Relationship Id="rId5" Type="http://schemas.openxmlformats.org/officeDocument/2006/relationships/slide" Target="slide14.xml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Deutsche  Literatur – </a:t>
            </a:r>
            <a:r>
              <a:rPr b="1" lang="de-DE" sz="4000" spc="-1" strike="noStrike" u="sng">
                <a:solidFill>
                  <a:srgbClr val="000000"/>
                </a:solidFill>
                <a:uFillTx/>
                <a:latin typeface="Verdana"/>
              </a:rPr>
              <a:t>Überblick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Verdana"/>
              </a:rPr>
              <a:t> II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M č.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gr. Karel Vac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dkrušnohorské gymnázium Most, příspěvková organiz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Weimarer Klassi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66"/>
                </a:solidFill>
                <a:latin typeface="Verdana"/>
              </a:rPr>
              <a:t>J.W.Goethe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Iphigenie auf Tauris – 178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gmont  - 178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Torquato Tasso – 17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Wilhelm Meisters Lehrjahre ,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    Wanderjahre   - 1795/18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aust  - 1805/18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66"/>
                </a:solidFill>
                <a:latin typeface="Verdana"/>
              </a:rPr>
              <a:t>F.Schiller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Don Carlos  - 178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Wallenstein – 18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aria Stuart – 18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Die Jungfrau von Orleans – 18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Die Braut von Messina  - 18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Wilhelm Tell – 1804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Úkol č.1 : skupiny 1 - 4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čtěte pozorně baladu Erlköni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ložte s pomocí slovníků a učite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ste se o svoji básnickou verzi překl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96360" y="5157720"/>
            <a:ext cx="7984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Úkol č.2 : skupiny 1 -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ovnejte svůj text s překladem Otokara Fische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jdi podobný motiv v české literatuř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Hausaufgab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.W. Goethe + F. Schi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jdi  a vypiš základní informace o jejich životě a dí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Wortschat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er Überblick, -e – přeh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as Werk, -e – díl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er Spruch, ¨-e – říkadlo, přísloví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er Zauber – kouzl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lthochdeutsch – starohornoněmeck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ittelhochdeutsch – středohornoněmeck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euhochdeutsch - novohornoněmeck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er Buchdruck – knihtis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as Neue Testament – Nový zák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ie Aufklärung – osvícenství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urm und Drang – bouře a vzd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leiden - trpě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5591160"/>
            <a:ext cx="109404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1072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řílohy (odkazy, řešení, materiály k vytištění, zdroje v souladu s autorským zákonem, ..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užitá literatura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olektiv autorů: Kurze Geschichte der deutschen Literatur, 4.vydání, Volk und Wissen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Berlin. 1987. 831 s., ISBN 3-06-102572-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http://cs.wikipedia.org/wiki/P%C3%ADse%C5%88_o_Nibelunz%C3%AD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http://cs.wikipedia.org/wiki/95_tez%C3%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http://www.die-lese-ecke.de/index.php?page=der-erlkoni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pis D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Tématická oblas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onverzace v německém jazyce - Německá literatur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Rozvíjené kompetenc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ompetence komunikativní, Kompetence k učení, k řešení problém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Didaktický cí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Žák si osvojí rozdělení německé literatury z hlediska časovéh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eznámí se s nejdůležitějšími díly jednotlivých období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Typ DUM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rezentace Power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Způsob práce s DUM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ezentace komentovaná výklad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amostatná práce žáků s odkaz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adání domácího  úkol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 u="sng">
                <a:solidFill>
                  <a:srgbClr val="000000"/>
                </a:solidFill>
                <a:uFillTx/>
                <a:latin typeface="Verdana"/>
              </a:rPr>
              <a:t>Deutsche  Literatur – </a:t>
            </a:r>
            <a:br>
              <a:rPr sz="3400"/>
            </a:br>
            <a:r>
              <a:rPr b="1" lang="de-DE" sz="3400" spc="-1" strike="noStrike" u="sng">
                <a:solidFill>
                  <a:srgbClr val="000000"/>
                </a:solidFill>
                <a:uFillTx/>
                <a:latin typeface="Verdana"/>
              </a:rPr>
              <a:t>Überblick</a:t>
            </a:r>
            <a:r>
              <a:rPr b="1" lang="cs-CZ" sz="3400" spc="-1" strike="noStrike" u="sng">
                <a:solidFill>
                  <a:srgbClr val="000000"/>
                </a:solidFill>
                <a:uFillTx/>
                <a:latin typeface="Verdana"/>
              </a:rPr>
              <a:t> II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ermanische Z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thochdeutsche Z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ittelhochdeutsche Z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flipH="1">
            <a:off x="8172000" y="5300640"/>
            <a:ext cx="4431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Verdana"/>
              </a:rPr>
              <a:t>Neuhochdeutsche Zeit –</a:t>
            </a: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( 1450 -…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Johannes Gutenberg (Mainz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Buchdruc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Martin Luther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95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hesen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– 31.10.1517 Wittenber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Das Neue Testa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(Wartbur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>
            <a:off x="8244000" y="5300640"/>
            <a:ext cx="442800" cy="725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804000" y="3357720"/>
            <a:ext cx="11286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Humanismus und Reformation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ill Eulenspiege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einecke Fuch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ans Sachs - Meistersa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Barock</a:t>
            </a: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ans Jakob Christoffel von Grimmelhaus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r Abendtheuerliche Simplicissimus Teuts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Aufklärung</a:t>
            </a: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Gottfried Wilhelm Leibnit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Gotthold Ephraim Less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Nathan der Weise, Emilia Galotti, Mina von    Barnhel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hristoph Martin Wiel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flipH="1">
            <a:off x="8244000" y="5445000"/>
            <a:ext cx="44280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Soubor:Goethe Schiller Weimar.jpg"/>
          <p:cNvPicPr/>
          <p:nvPr/>
        </p:nvPicPr>
        <p:blipFill>
          <a:blip r:embed="rId5"/>
          <a:stretch/>
        </p:blipFill>
        <p:spPr>
          <a:xfrm>
            <a:off x="1835280" y="0"/>
            <a:ext cx="469404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Verdana"/>
              </a:rPr>
              <a:t>Sturm und Drang</a:t>
            </a: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66"/>
                </a:solidFill>
                <a:latin typeface="Verdana"/>
              </a:rPr>
              <a:t>Johann Gottfried Herd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66"/>
                </a:solidFill>
                <a:latin typeface="Verdana"/>
              </a:rPr>
              <a:t>J.W.Goe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Götz von Berlichingen mit der eisernen Hand - 177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ie Leiden des jungen Werthers  - 177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alla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66"/>
                </a:solidFill>
                <a:latin typeface="Verdana"/>
              </a:rPr>
              <a:t>F.Schill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abale und Liebe - 178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Die Räuber – 1781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An die Freude - 178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flipH="1">
            <a:off x="8244000" y="5445000"/>
            <a:ext cx="44280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7:39:20Z</dcterms:created>
  <dc:creator>Ředitel</dc:creator>
  <dc:description/>
  <dc:language>en-US</dc:language>
  <cp:lastModifiedBy>Ředitel</cp:lastModifiedBy>
  <dcterms:modified xsi:type="dcterms:W3CDTF">2011-12-01T12:45:02Z</dcterms:modified>
  <cp:revision>18</cp:revision>
  <dc:subject/>
  <dc:title>Deutsche  Literatur – Überblick</dc:title>
</cp:coreProperties>
</file>