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3E5-3BB5-42FA-8042-9350F9BC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956-548D-4C88-89AA-9372A031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20E-57F8-4C0F-8C42-0001B916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C74-808F-46BD-A8D9-F37129C9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DAF6-2A77-4E6A-9CE8-932B1ED3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817D-C098-4051-872F-112E5572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8B5F-92EB-439F-823D-9E67994E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993D-A84D-4D92-85E4-4329282B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5471-90F8-4400-99CB-6EC2B4C4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154E-BE17-44CD-9304-CE53D807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1D95-DC24-4595-9A8A-B4C24443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F79-98A8-4154-98E9-8B9F1E09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38B1-601F-4EFF-9914-D5AC7420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24C4-5DFA-4DAE-B7CC-2D637A27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48EB-E641-4BDC-B705-0630D567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7E99-9962-4603-9DBE-01E62EC5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AE86-FE5C-45B1-97D5-C0769080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D85-0898-4C1C-B970-E96461E0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E16-63CF-4024-AC05-900A7BD9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452-EF3E-480E-A895-FB2B8EC0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CFF-64C6-4927-BAF3-0984F2E0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C7B-2F15-4C73-981E-A62A01ED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29D-FBE4-40F8-8F17-508A5AB0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634-6AF8-4767-AFBD-B00C0B41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22AF-552A-4C18-BBC2-8D0EFF23D52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4CD2-FED8-49EC-847B-7B24E9FAC63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DUM%20Deutsche%20%20Literatur%20&#8211;%20&#220;berblick%202.ppt" TargetMode="External"/><Relationship Id="rId2" Type="http://schemas.openxmlformats.org/officeDocument/2006/relationships/hyperlink" Target="file:///DUM%20Deutsche%20%20Literatur%20&#8211;%20&#220;berblick%202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onverzace v německém jazyc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prosince 20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7. – 18. h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3N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Teil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mic Sans MS"/>
              </a:rPr>
              <a:t>Der Prüfer stellt Ihnen einige </a:t>
            </a:r>
            <a:r>
              <a:rPr b="1" lang="cs-CZ" sz="1400" spc="-1" strike="noStrike">
                <a:solidFill>
                  <a:srgbClr val="000000"/>
                </a:solidFill>
                <a:latin typeface="Comic Sans MS"/>
              </a:rPr>
              <a:t>Fragen</a:t>
            </a:r>
            <a:r>
              <a:rPr b="0" lang="cs-CZ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cs-CZ" sz="1400" spc="-1" strike="noStrike">
                <a:solidFill>
                  <a:srgbClr val="000000"/>
                </a:solidFill>
                <a:latin typeface="Comic Sans MS"/>
              </a:rPr>
              <a:t>Beantworten </a:t>
            </a:r>
            <a:r>
              <a:rPr b="0" lang="cs-CZ" sz="1400" spc="-1" strike="noStrike">
                <a:solidFill>
                  <a:srgbClr val="000000"/>
                </a:solidFill>
                <a:latin typeface="Comic Sans MS"/>
              </a:rPr>
              <a:t>Sie sie bitte möglichst ausführlich. Wenn Sie etwas nicht verstehen, fragen Sie bitte nach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allo/Guten Tag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(Nehmen Sie bitte Platz. Können Sie mir bitte die Nummer Ihres Schülerblattes sagen?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itte stellen Sie sich kurz vo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nke/Danke schön/Vielen Dank 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Wir beginnen nun mit dem ersten Teil der Prüfu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ielen Dank. Jetzt kommen wir zum zweiten Teil der Prüfun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7008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Frage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u welchem Zweck benutzen Sie das Interne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Warum spielt das Internet in der heutigen Gesellschaft eine große Roll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Wo und wie haben die Leute früher Informationen gesuch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önnten Sie sich das Leben ohne Internet vorstellen? Warum ja?/Warum nich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wieweit kann das Internet schaden oder gefährlich sei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Was denken Sie über Kontaktaufnahmen per Interne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Hörübung + Te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ufgabe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ufgabe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Deutsche Literatur II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Überblick</a:t>
            </a:r>
            <a:r>
              <a:rPr b="0" lang="cs-CZ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 I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Hausaufgab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Meine Familie (A4) zpracování konverzačního tématu formou vyprávění – do 16.12. elektronic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.W. Goethe + F. Schill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ákladní informace o životě a dí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2:30:45Z</dcterms:created>
  <dc:creator>Ředitel</dc:creator>
  <dc:description/>
  <dc:language>en-US</dc:language>
  <cp:lastModifiedBy>Ředitel</cp:lastModifiedBy>
  <dcterms:modified xsi:type="dcterms:W3CDTF">2011-12-01T12:43:28Z</dcterms:modified>
  <cp:revision>3</cp:revision>
  <dc:subject/>
  <dc:title>Konverzace v německém jazyce</dc:title>
</cp:coreProperties>
</file>